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67A1-B5B6-47E6-AE92-F6946B43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7C40-E200-4730-98A7-0844BDAB2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12DE-8A9B-4FA6-9381-5933FB96A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01CE-35CE-4907-AEAE-14602D3E1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F961-C699-453A-8EC8-F71C1215A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1311-048D-455C-AC8E-64C458DD0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B5B9-1857-4B79-8933-979D136D3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469D-FEA8-478F-8135-D8814DAA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089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5A39-F02C-4E49-AFCF-EAA3E7F71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61AB-B990-4050-812F-2E1A88D45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3F7F-CED6-4C0E-A5DC-C89FDB640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5EBA-5172-4E69-BD22-3AEA59011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3FE7D0-3327-4FD1-BC1B-0F64CA8782F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907920"/>
            <a:ext cx="8713800" cy="496908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571760"/>
            <a:ext cx="88930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lackadder ITC"/>
              </a:rPr>
              <a:t>2-Пересыпкинский филиал МБОУ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lackadder ITC"/>
              </a:rPr>
              <a:t>2-Гавриловской сош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Blackadder ITC"/>
              </a:rPr>
              <a:t>«Духовно-нравственное воспитание школьников как основа гармоничного развития личности учащегося»</a:t>
            </a:r>
            <a:r>
              <a:rPr b="0" lang="ru-RU" sz="3600" spc="-1" strike="noStrike">
                <a:solidFill>
                  <a:srgbClr val="b7e7ff"/>
                </a:solidFill>
                <a:latin typeface="Blackadder ITC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Blackadder ITC"/>
              </a:rPr>
              <a:t>Выполнила: учитель иностранного языка </a:t>
            </a:r>
            <a:br>
              <a:rPr sz="3600"/>
            </a:br>
            <a:r>
              <a:rPr b="0" lang="ru-RU" sz="3600" spc="-1" strike="noStrike">
                <a:solidFill>
                  <a:srgbClr val="b7e7ff"/>
                </a:solidFill>
                <a:latin typeface="Blackadder ITC"/>
              </a:rPr>
              <a:t>Судоргина Нина Анатольевна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4360" y="4797360"/>
            <a:ext cx="1619280" cy="17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99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10000"/>
              </a:lnSpc>
              <a:spcBef>
                <a:spcPts val="612"/>
              </a:spcBef>
              <a:spcAft>
                <a:spcPts val="11"/>
              </a:spcAft>
              <a:buClr>
                <a:srgbClr val="ff99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Arial"/>
              </a:rPr>
              <a:t>Во-первых,</a:t>
            </a:r>
            <a:r>
              <a:rPr b="1" lang="ru-RU" sz="2400" spc="-1" strike="noStrike">
                <a:solidFill>
                  <a:srgbClr val="ff99cc"/>
                </a:solidFill>
                <a:latin typeface="Arial"/>
              </a:rPr>
              <a:t> понимание и учет в работе всех источников нравственного опыта воспитанников: деятельность (учебная, общественно полезная), отношения между детьми в коллективе, отношения воспитанников с педагогами и родителями, эстетика быта, мир природы,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12"/>
              </a:spcBef>
              <a:spcAft>
                <a:spcPts val="11"/>
              </a:spcAft>
              <a:buClr>
                <a:srgbClr val="ff99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Arial"/>
              </a:rPr>
              <a:t>Во-вторых,</a:t>
            </a:r>
            <a:r>
              <a:rPr b="1" lang="ru-RU" sz="2400" spc="-1" strike="noStrike">
                <a:solidFill>
                  <a:srgbClr val="ff99cc"/>
                </a:solidFill>
                <a:latin typeface="Arial"/>
              </a:rPr>
              <a:t> правильное соотношение форм деятельности и просвещения на разных возрастных этап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12"/>
              </a:spcBef>
              <a:spcAft>
                <a:spcPts val="11"/>
              </a:spcAft>
              <a:buClr>
                <a:srgbClr val="ff99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Arial"/>
              </a:rPr>
              <a:t>В-третьих,</a:t>
            </a:r>
            <a:r>
              <a:rPr b="1" lang="ru-RU" sz="2400" spc="-1" strike="noStrike">
                <a:solidFill>
                  <a:srgbClr val="ff99cc"/>
                </a:solidFill>
                <a:latin typeface="Arial"/>
              </a:rPr>
              <a:t> включение нравственных критериев в оценку всех без исключения видов деятельности и проявлений личности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1592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592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Arial"/>
              </a:rPr>
              <a:t>Система нравственного воспитания включает в себ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2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33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и общие личностные (идейность, гражданственность, нравственность, педагогическая направленность и эстетическая культу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о-педаг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дивидуальные особенности познавательных процессов и их педагогическая направленность (педагогическая наблюдательность, мышление, память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оциональная отзывч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евые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темпера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стояние здоровь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кое мыш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овое общ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реобразовательные» способ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дагогическая рефлек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е этические качества (добродете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62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сокие ценностные установки (патриотизм, гражданственность, любовь к детя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115920"/>
            <a:ext cx="7489800" cy="1414440"/>
          </a:xfrm>
          <a:custGeom>
            <a:avLst/>
            <a:gdLst>
              <a:gd name="textAreaLeft" fmla="*/ 166680 w 7489800"/>
              <a:gd name="textAreaRight" fmla="*/ 7323120 w 7489800"/>
              <a:gd name="textAreaTop" fmla="*/ 166680 h 1414440"/>
              <a:gd name="textAreaBottom" fmla="*/ 1247760 h 1414440"/>
            </a:gdLst>
            <a:ahLst/>
            <a:rect l="textAreaLeft" t="textAreaTop" r="textAreaRight" b="textAreaBottom"/>
            <a:pathLst>
              <a:path w="1143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0754" y="21600"/>
                </a:lnTo>
                <a:arcTo wR="3600" hR="3600" stAng="10800000" swAng="5400000"/>
                <a:lnTo>
                  <a:pt x="114354" y="3600"/>
                </a:lnTo>
                <a:arcTo wR="3600" hR="3600" stAng="5400000" swAng="5400000"/>
                <a:close/>
              </a:path>
            </a:pathLst>
          </a:custGeom>
          <a:solidFill>
            <a:srgbClr val="9933ff">
              <a:alpha val="50000"/>
            </a:srgbClr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89000"/>
            <a:ext cx="6770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Группы качеств личности педагога, влияющие на нравственное воспит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nodeType="clickEffect" fill="hold">
                      <p:stCondLst>
                        <p:cond delay="0"/>
                      </p:stCondLst>
                      <p:childTnLst>
                        <p:par>
                          <p:cTn id="26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dur="indefinite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dur="indefinite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dur="indefinite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dur="indefinite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dur="indefinite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dur="indefinite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dur="indefinite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33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едагога отличают следующие качества: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484280"/>
            <a:ext cx="82184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яркая индивидуальн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юбовь к детя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нутренняя сила, цельность, целеустремленность, притягивающая детей и взрослы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"организационное и эмоциональное" лидерств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ность генерировать идеи и увлекать и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широта и глубина интересов, целостное мировоззр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веренность в своей миссии, в правильности избранного им пу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ысокая степень напряженности внутренней жизни, устремленность, возвышенный характер духовно-нравственной сферы (духовность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ворческое отношение к детям, к своему делу, к миру в цело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ворческое отношение к самому себе как личности - использование собственных возможностей достигает в таком учителе своей высшей фор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13"/>
              </a:spcBef>
              <a:spcAft>
                <a:spcPts val="11"/>
              </a:spcAft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уманистический приорит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nodeType="clickEffect" fill="hold">
                      <p:stCondLst>
                        <p:cond delay="0"/>
                      </p:stCondLst>
                      <p:childTnLst>
                        <p:par>
                          <p:cTn id="36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dur="indefinite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dur="indefinite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dur="indefinite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dur="indefinite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dur="indefinite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0"/>
            <a:ext cx="8642160" cy="1511280"/>
          </a:xfrm>
          <a:custGeom>
            <a:avLst/>
            <a:gdLst>
              <a:gd name="textAreaLeft" fmla="*/ 177840 w 8642160"/>
              <a:gd name="textAreaRight" fmla="*/ 8464320 w 8642160"/>
              <a:gd name="textAreaTop" fmla="*/ 177840 h 1511280"/>
              <a:gd name="textAreaBottom" fmla="*/ 1333440 h 1511280"/>
            </a:gdLst>
            <a:ahLst/>
            <a:rect l="textAreaLeft" t="textAreaTop" r="textAreaRight" b="textAreaBottom"/>
            <a:pathLst>
              <a:path w="1234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894" y="21600"/>
                </a:lnTo>
                <a:arcTo wR="3600" hR="3600" stAng="10800000" swAng="5400000"/>
                <a:lnTo>
                  <a:pt x="123494" y="3600"/>
                </a:lnTo>
                <a:arcTo wR="3600" hR="3600" stAng="5400000" swAng="5400000"/>
                <a:close/>
              </a:path>
            </a:pathLst>
          </a:custGeom>
          <a:solidFill>
            <a:srgbClr val="cc99ff">
              <a:alpha val="3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хнология развития чувств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едагогической любв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Постараться понять, что они - дети, потому и ведут себя как обычные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Постараться принять ребенка таким, каков он есть на самом деле - с "плюсами" и "минус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Возможно более полно узнать, почему он стал "таким", и постараться "выработать" в себе понимание, сострадание и сочувствие к ребе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Найти позитивное в личности ребенка, выразить ему доверие, постараться включить его в общую деятельность (с заранее прогнозируемой позитивной оценк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Установить личный контакт с помощью средств невербального общения, создавать "ситуации успеха", оказывать ребенку позитивную словесную поддер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Не упустить момент словесного или эмоционального отклика с его стороны, принять действенное участие в проблемах и трудностях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Не стесняться проявлять свою любовь к детям, открыто откликаться на проявление ответной любви, закреплять дружеский, сердечный, искренний тон в практике повседневного 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dur="indefinite" nodeType="clickEffect" fill="hold">
                      <p:stCondLst>
                        <p:cond delay="0"/>
                      </p:stCondLst>
                      <p:childTnLst>
                        <p:par>
                          <p:cTn id="4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dur="indefinite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dur="indefinite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dur="indefinite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1680" y="228600"/>
            <a:ext cx="85104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создания условий духовно-нравственного развития учащихся, их воспитания и полноценной социализации, необходимо:</a:t>
            </a:r>
            <a:br>
              <a:rPr sz="20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   Каждому педагогу осознанно стремиться к собственному  духовному росту и оказанию помощи своим воспитанникам в духовном взрослении. Создать в коллективе атмосферу товарищества, доброжелательности, уважительного отношения к личности и индивидуальности каждого учащегося, признать за ним право на собственную точку зрения, развитие диалоговых форм об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   Систематически изучать каждого школьника. Школьный психолог должен стать первым помощником классного руководителя в решении многих вопросов, в возможности разработки индивидуальных вариантов воспитания и развития школь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   Повышать педагогическую культуру родите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ным руководителям запланировать и провести в 3 четверти родительские собрания по теме «Духовное и нравственное воспитание в семье», изучить опыт семей в этом вопрос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Учителям-предметникам при отборе материалов к уроку руководствоваться воспитательными целями, ориентированными на духовность и нравств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Классным руководителям продолжить разработку воспитательных программ классов и рассматривать их на методическом объединении классных руководите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Всем классным руководителям активнее внедрять в воспитательный процесс различные педагогические технологии и применять новейшие компьютерные технологии при проведении внекласс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9640" y="333360"/>
            <a:ext cx="79218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0" i="1" lang="ru-RU" sz="5400" spc="-1" strike="noStrike">
                <a:solidFill>
                  <a:srgbClr val="ffff99"/>
                </a:solidFill>
                <a:latin typeface="Arial"/>
              </a:rPr>
              <a:t>В человеке все должно быть прекрасн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ffff99"/>
                </a:solidFill>
                <a:latin typeface="Arial"/>
              </a:rPr>
              <a:t>и лицо, и одежда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ffff99"/>
                </a:solidFill>
                <a:latin typeface="Arial"/>
              </a:rPr>
              <a:t>и душа, и мысли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…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А.П.Чех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dur="indefinite" nodeType="clickEffect" fill="hold">
                      <p:stCondLst>
                        <p:cond delay="0"/>
                      </p:stCondLst>
                      <p:childTnLst>
                        <p:par>
                          <p:cTn id="5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1680" y="228600"/>
            <a:ext cx="851040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А. Сухомлинский писал: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амый лучший учитель для ребенка тот, кто, духовно общаясь с ним, забывает, что он учитель, и видит в своем ученике друга, единомышленника. Такой учитель знает самые сокровенные уголки сердца своего воспитанника, и слово в его устах становится могучим орудием воздействия на молодую, формирующуюся личность. От чуткости учителя к духовному миру воспитанников как раз и зависит создание обстановки, побуждающей к нравственному поведению, нравственным поступка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028880"/>
            <a:ext cx="8136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одна из основных функций общества, это общественное явление, определяющее вид человеческой деятельности, который имеет осмысленный целенаправлен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ни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ередача общественно-исторического опыта новым поколениям с целью подготовки их к общественной жизни и творческой работе; целенаправленное систематическое воздействие на развитие человека с тем, чтобы подготовить его к выполнению определенных ролей в системе общественных отно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89000"/>
            <a:ext cx="8353440" cy="1295280"/>
          </a:xfrm>
          <a:custGeom>
            <a:avLst/>
            <a:gdLst>
              <a:gd name="textAreaLeft" fmla="*/ 152640 w 8353440"/>
              <a:gd name="textAreaRight" fmla="*/ 8200800 w 835344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3926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5669" y="21600"/>
                </a:lnTo>
                <a:arcTo wR="3600" hR="3600" stAng="10800000" swAng="5400000"/>
                <a:lnTo>
                  <a:pt x="139269" y="3600"/>
                </a:lnTo>
                <a:arcTo wR="3600" hR="3600" stAng="5400000" swAng="5400000"/>
                <a:close/>
              </a:path>
            </a:pathLst>
          </a:custGeom>
          <a:solidFill>
            <a:srgbClr val="ff6600">
              <a:alpha val="31000"/>
            </a:srgbClr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0"/>
            <a:ext cx="8002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РИНЦИПЫ  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844640"/>
            <a:ext cx="82310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buClr>
                <a:srgbClr val="660033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Принцип гуманистической направ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buClr>
                <a:srgbClr val="660033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Принцип природосообраз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buClr>
                <a:srgbClr val="660033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Принцип культуросообраз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buClr>
                <a:srgbClr val="660033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Принцип эффективности социального взаимодейств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buClr>
                <a:srgbClr val="660033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Принцип ориентации воспитания на развитие социальной и культурной компетен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0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680" y="228600"/>
            <a:ext cx="8510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.Н. Толстой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з всех наук, которые должен  знать человек, главнейшая есть наука о том, как жить, делая как можно меньше зла и как можно больше добра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1680" y="174600"/>
            <a:ext cx="8510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е воспитан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 целенаправленное формирование морального сознания, развитие нравственных чувств и выработка навыков и привычек нравственного поведения. И главная цель нравственного воспитания - это воспитание нравственного человека, способного к принятию ответственных  решений и к проявлению нравственного поведения в любых жизненн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58920" y="189000"/>
            <a:ext cx="6553080" cy="1295280"/>
          </a:xfrm>
          <a:custGeom>
            <a:avLst/>
            <a:gdLst>
              <a:gd name="textAreaLeft" fmla="*/ 152640 w 6553080"/>
              <a:gd name="textAreaRight" fmla="*/ 6400440 w 655308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0925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5654" y="21600"/>
                </a:lnTo>
                <a:arcTo wR="3600" hR="3600" stAng="10800000" swAng="5400000"/>
                <a:lnTo>
                  <a:pt x="109254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1000"/>
            </a:srgbClr>
          </a:solidFill>
          <a:ln w="316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8900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Приоритетные задачи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060640"/>
            <a:ext cx="871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казание помощи ребенку в его мировоззренческом гражданском самоопредел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еобходимость вооружить растущего человека средствами самоорганизации, уважения человеческого достоинства, самоутверждения лич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Clr>
                <a:srgbClr val="0066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остановка ребенка в ситуацию нравственного выбора, усвоения им нравственных категорий в реальных жизненных обстоятельств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0"/>
                      </p:stCondLst>
                      <p:childTnLst>
                        <p:par>
                          <p:cTn id="7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9933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5920"/>
            <a:ext cx="8642160" cy="1512720"/>
          </a:xfrm>
          <a:custGeom>
            <a:avLst/>
            <a:gdLst>
              <a:gd name="textAreaLeft" fmla="*/ 178200 w 8642160"/>
              <a:gd name="textAreaRight" fmla="*/ 8463960 w 8642160"/>
              <a:gd name="textAreaTop" fmla="*/ 178200 h 1512720"/>
              <a:gd name="textAreaBottom" fmla="*/ 1334520 h 1512720"/>
            </a:gdLst>
            <a:ahLst/>
            <a:rect l="textAreaLeft" t="textAreaTop" r="textAreaRight" b="textAreaBottom"/>
            <a:pathLst>
              <a:path w="1233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19776" y="21600"/>
                </a:lnTo>
                <a:arcTo wR="3600" hR="3600" stAng="10800000" swAng="5400000"/>
                <a:lnTo>
                  <a:pt x="123376" y="3600"/>
                </a:lnTo>
                <a:arcTo wR="3600" hR="3600" stAng="5400000" swAng="5400000"/>
                <a:close/>
              </a:path>
            </a:pathLst>
          </a:custGeom>
          <a:solidFill>
            <a:srgbClr val="008000">
              <a:alpha val="48000"/>
            </a:srgbClr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900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cc"/>
                </a:solidFill>
                <a:latin typeface="Arial"/>
              </a:rPr>
              <a:t>Общечеловеческие цен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00280"/>
            <a:ext cx="822960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Любовь к мате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атриотизм. Любовь к Роди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обода в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Добро и зл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амовоспит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Доброде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ов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buClr>
                <a:srgbClr val="cc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деж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43160" indent="-44784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dur="indefinite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dur="indefinite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0000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900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0099cc">
              <a:alpha val="35000"/>
            </a:srgbClr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ктуальность проблем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уховно-нравственного 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916280"/>
            <a:ext cx="82296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Во-первых,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общество нуждается в подготовке широко образованных, высоко нравственных людей, обладающих не только знаниями, но и прекрасными чертами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Во-вторых,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в современном мире ребенок развивается, окруженный множеством разнообразных источников сильного воздействия на него как позитивного, так и негативного характера на еще только формирующуюся сферу нравств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В-третьих,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само по себе образование не гарантирует высокого уровня нравственной воспита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00cc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Arial"/>
              </a:rPr>
              <a:t>В-четвертых,</a:t>
            </a: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 нравственные знания информируют ребенка о нормах поведения в современном обществе, дают представления о последствиях нарушения этих норм или последствиях данного поступка для окружающи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nodeType="clickEffect" fill="hold">
                      <p:stCondLst>
                        <p:cond delay="0"/>
                      </p:stCondLst>
                      <p:childTnLst>
                        <p:par>
                          <p:cTn id="18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4:08:23Z</dcterms:created>
  <dc:creator>flex</dc:creator>
  <dc:description/>
  <dc:language>en-US</dc:language>
  <cp:lastModifiedBy/>
  <dcterms:modified xsi:type="dcterms:W3CDTF">2023-04-21T07:30:13Z</dcterms:modified>
  <cp:revision>69</cp:revision>
  <dc:subject/>
  <dc:title>Документы  для подготовки  к проведению ЕГЭ </dc:title>
</cp:coreProperties>
</file>